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FD64-AA21-43DC-AE30-64B1EA8A3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7238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5659200"/>
            <a:ext cx="7238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6917-5A56-473A-BCA9-84FDB8810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964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C0E1-7DF7-4D84-BEA9-426C441E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47840" y="518148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5480" y="518148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565920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47840" y="565920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5480" y="565920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668F-93BA-42BC-A59A-E7682B281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8EC-CAD4-408A-9D14-9B469A5BE2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36D-B8BE-4C41-82FF-98E4FBE227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AF5-A0AB-422D-AD74-583345A058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C48-F9D3-4E49-A203-3944BCDBAD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4BF-6D5A-4F23-87DF-1BF387421F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72388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A42-3128-47E5-8E95-072F1A1FC9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0020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EF2-E3B0-42FA-B5B0-97B582D17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5181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010D-B30F-4D95-9580-682E50EF4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0964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6C9-4497-42E9-9EEB-0F4715CD3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00200" y="5659200"/>
            <a:ext cx="7238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A5F-225E-4AC7-903A-A8CE23C57B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7238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00200" y="5659200"/>
            <a:ext cx="7238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CF4-4785-4C48-AF0E-163E58D1B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020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0964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A90-3655-4F48-BF8D-F0B748218D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47840" y="518148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95480" y="518148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00200" y="565920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47840" y="565920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95480" y="5659200"/>
            <a:ext cx="233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FA7-E81C-494E-8157-08515745C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430F-225B-46C0-B6BE-2C78A0646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485A-EF26-4B5A-A693-197BAE812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5DC3-70D2-46ED-A6B5-9F2151701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72388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B4A5-2422-443F-83EE-8B55DE93C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1B9F-756B-4A4E-866C-989FB0088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9640" y="565920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3187-DD58-468B-A05B-5D271E274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9640" y="5181480"/>
            <a:ext cx="3532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5659200"/>
            <a:ext cx="7238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EE21-22FA-4886-8523-FB5AF78A0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iewgraph-Background" descr=""/>
          <p:cNvPicPr/>
          <p:nvPr/>
        </p:nvPicPr>
        <p:blipFill>
          <a:blip r:embed="rId2"/>
          <a:stretch/>
        </p:blipFill>
        <p:spPr>
          <a:xfrm>
            <a:off x="-61920" y="-47520"/>
            <a:ext cx="9267840" cy="695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66290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653-8870-4E7B-ADC5-A0FDDF88C5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29720" y="65214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orewebprogramming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-Background" descr=""/>
          <p:cNvPicPr/>
          <p:nvPr/>
        </p:nvPicPr>
        <p:blipFill>
          <a:blip r:embed="rId2"/>
          <a:stretch/>
        </p:blipFill>
        <p:spPr>
          <a:xfrm>
            <a:off x="-61920" y="-47520"/>
            <a:ext cx="9267840" cy="6953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3276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966D-D85C-4304-99E8-9185E8622F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52140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2001-2002 Marty Hall, Larry Brown http://www.corewebprogramming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WP2-Globe-350x476" descr=""/>
          <p:cNvPicPr/>
          <p:nvPr/>
        </p:nvPicPr>
        <p:blipFill>
          <a:blip r:embed="rId3"/>
          <a:stretch/>
        </p:blipFill>
        <p:spPr>
          <a:xfrm>
            <a:off x="1676520" y="380880"/>
            <a:ext cx="19047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069080" y="304920"/>
            <a:ext cx="3905640" cy="2593080"/>
            <a:chOff x="4069080" y="304920"/>
            <a:chExt cx="3905640" cy="2593080"/>
          </a:xfrm>
        </p:grpSpPr>
        <p:sp>
          <p:nvSpPr>
            <p:cNvPr id="48" name=""/>
            <p:cNvSpPr/>
            <p:nvPr/>
          </p:nvSpPr>
          <p:spPr>
            <a:xfrm>
              <a:off x="4221000" y="609480"/>
              <a:ext cx="360972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800" spc="-1" strike="noStrike">
                  <a:solidFill>
                    <a:srgbClr val="000000"/>
                  </a:solidFill>
                  <a:latin typeface="Charlemagne"/>
                </a:rPr>
                <a:t>Web</a:t>
              </a:r>
              <a:endParaRPr b="0" lang="en-US" sz="1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69080" y="304920"/>
              <a:ext cx="133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Present"/>
                </a:rPr>
                <a:t>co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09040" y="2133720"/>
              <a:ext cx="386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Present"/>
                </a:rPr>
                <a:t>programmi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3523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Advanced </a:t>
            </a:r>
            <a:br>
              <a:rPr sz="5400"/>
            </a:b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Object-Oriented Programming in Java 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5640" y="47239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D0D-28CB-4DF9-8B88-BC96A96218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heritance Example: Testing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class SpeedboatTest {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peedboat s1 = new Speedboat("Speedboat1"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peedboat s2 = new Speedboat(0.0, 0.0, 2.0, 135.0,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"Speedboat2", "blue"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hip s3 = new Ship(0.0, 0.0, 2.0, 135.0, "Ship1"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1.move(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2.move(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3.move(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1.printLocation(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2.printLocation(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3.printLocation(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3568-3FDD-4C67-8F01-A6BF135F1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heritance Example: Resul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iling and Running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c SpeedboatTest.jav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bove calls javac 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peedboat.jav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.jav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utomatical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ava SpeedboatTest</a:t>
            </a:r>
            <a:br>
              <a:rPr sz="18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D Speedboat1 is at (20,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UE Speedboat2 is at (-1.41421,1.4142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ip1 is at (-1.41421,1.4142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9434-5BB9-41D9-8A4B-9DFDAEC0DD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6: Major Poi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at for defining subcla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inherited metho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uper(…) for inherited construct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n the zero-arg constructor is not 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uper.someMethod(…) for inherited method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n there is a name confl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449B-5B74-48D0-BBE9-E80F000C4B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heritanc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tax for defining subcla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NewClass extends OldClas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e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isting 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base 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aren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ew 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erived 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hil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ect of inheri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classes automatically have all public fields and methods of the paren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don’t need any special syntax to access the inherited fields and methods; you use the exact same syntax as with locally defined fields or method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can also add in fields or methods not available in the super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ava doesn’t support multiple inheri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67C6-8A3D-4963-92EC-30FC3185BF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herited constructors and super(...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n you instantiate an object of a subclass, the system will automatically call the superclass constructor fir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default, the zero-argument superclass constructor is called unless a different constructor is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the constructor in the superclass thr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…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in a subclass constructor,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…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the first statement in the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structor life-cyc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nstructor has three phas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85000"/>
              </a:lnSpc>
              <a:spcBef>
                <a:spcPts val="2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 the constructor of the super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5000"/>
              </a:lnSpc>
              <a:spcBef>
                <a:spcPts val="2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ize all instance variables based on their initialization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5000"/>
              </a:lnSpc>
              <a:spcBef>
                <a:spcPts val="2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e the body of the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7B29-04F5-4A5D-8D9A-526CEF71E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verridden methods and super.method(...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class defines a method usi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e name, return type, and argu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a method in the superclass, then the clas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verri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method in the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7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non-static methods can be overr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a locally defined method and an inherited method that take the same arguments, you can use the following to refer to the inherited metho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methodName(...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7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us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uper.super.methodName) will not access overridden methods higher up in the hierarchy;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only be used to invoke overridden methods from within the class that does the overrid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lnSpc>
                <a:spcPct val="7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7106-4B9A-4E80-BA84-3F0E08CD0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dvanced OOP Topic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morphism detai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PA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ibility other than public or priva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avaDoc detai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638C-E544-46C6-A394-416EC9C1A1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bstract Class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es permit declaration of classes that define only part of an implementation, leaving the subclasses to provide the det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lass is considered abstract if at least one method in the class has no implementatio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abstract method has no implementation (known in C++ as a pure virtual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class with an abstract method must be declared abstr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subclass overrides all the abstract methods in the superclass, than an object of the subclass can be instanti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 abstract class can contain instance variables and methods that are fully implemen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subclass can override a concrete method inherited from the superclass and declare the method abstr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E89B-82BD-4F40-83E0-729B811A1C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bstract Classes (Continued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 abstract class cannot be instantiated, however references to an abstract class can be declared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hreeDshap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 abstract void drawShape( Graphics g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 abstract void resize( double scale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Dshape  s1;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Dshape[] arrayOfShapes  = new ThreeDshape[20];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ter you might say: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1 = new Cube(10.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es from which objects can be instantiated are called concrete classes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9B75-500E-4F4B-B14F-F9109A8CA6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terfac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faces define a Java type consisting purely of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onstants and abstract metho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interface does not implement any of the methods, but imposes a design structure on any class that uses the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that implements an interface must either provide  definitions for all methods or declare itself abstra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4648320"/>
          <a:ext cx="60008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648320"/>
                    <a:ext cx="60008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7252-823E-4EFB-BA47-DACA70862E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genda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igning “real” cla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ing polymorphis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ting a CLASSPATH and using pack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sibility modifi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ng on-line documentation using Java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2DF2-85D8-406B-9633-B47E9FE40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terfaces (Continued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methods in an interface are implicitly abstract and the keyword abstract is not required in a method decla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fields in an interface are implicitly </a:t>
            </a:r>
            <a:r>
              <a:rPr b="0" lang="en-US" sz="2600" spc="-1" strike="noStrike">
                <a:solidFill>
                  <a:srgbClr val="cc0000"/>
                </a:solidFill>
                <a:latin typeface="Courier New"/>
              </a:rPr>
              <a:t>static </a:t>
            </a:r>
            <a:r>
              <a:rPr b="0" lang="en-US" sz="26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constan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data fields and methods in an interface are implicitly </a:t>
            </a:r>
            <a:r>
              <a:rPr b="0" lang="en-US" sz="2600" spc="-1" strike="noStrike">
                <a:solidFill>
                  <a:srgbClr val="ff0000"/>
                </a:solidFill>
                <a:latin typeface="Courier New"/>
              </a:rPr>
              <a:t>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47680" y="4267080"/>
            <a:ext cx="511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terface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Type CONSTANT1 = value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Type CONSTANT2 = value2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Type1 method1(ArgType1 ar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Type2 method2(ArgType2 ar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503C-77F0-45B8-B656-A3EB5FEB04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Interfaces (Continued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nding Interfa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s can extend other interfaces, which brings rise to sub-interfaces and super-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like classes, however, an interface can extend more than one interface at a ti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erface Displayab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xtends Drawable, Print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dditonal constants and abstract metho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ing Multiple Interfa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s provide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multiple inheritance because a class can implement more than one interface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Circ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xtends TwoDshap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      implements Drawable, Print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717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FC77-30CD-4301-A983-2B75D1D6A8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Polymorphism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” literally means “of multiple shapes” and in the context of object-oriented programming, polymorphic means “having multiple behavior”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polymorphic method results in different actions depending on the object being reference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known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ate bind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un-time bi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 practice, polymorphism is used in conjunction with reference arrays to loop through a collection of objects and to access each object's polymorphic method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6EC7-0FD1-4DD8-A514-5945EFC3E6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Polymorphism: Examp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PolymorphismTest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[] ship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new Ship[3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s[0]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 Shi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0, 0.0, 2.0, 135.0, "Ship1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s[1]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 Speedb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"Speedboat1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s[2]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 Speedb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0, 0.0, 2.0, 135.0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Speedboat2", "blue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ships.length ; i++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s[i].mov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s[i]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3428-FE4D-4270-981D-B9BE8B56EE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Polymorphism: Resul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iling and Running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c PolymorphismTest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PolymorphismTest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D Speedboat1 is at (20,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UE Speedboat2 is at (-1.41421,1.4142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1 is at (-1.41421,1.4142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0CFA-4CBA-4F2B-9D1D-33232A6FEB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LASSPATH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environment variable defines a list of directories in which to look for cla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ault = current directory and system libr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st practice is to not set this when first learning Jav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tting the CLASSPA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CLASSPATH = .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\java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\cwp\echoserver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env CLASSPATH .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/java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home/cwp/classes/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iod indicates the current working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lying a CLASSPA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c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–classpath .;D:\cw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WebClient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–classpath .;D:\cw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Web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FBB9-A7F4-402D-A6E6-41FA52707F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reating Packag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ck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ets you group classes in subdirectories t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void accidental name conflic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7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reate a packag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75000"/>
              </a:lnSpc>
              <a:spcBef>
                <a:spcPts val="2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ubdirectory with the same name as the desired package and place the source files in tha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75000"/>
              </a:lnSpc>
              <a:spcBef>
                <a:spcPts val="2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package statement to each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package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75000"/>
              </a:lnSpc>
              <a:spcBef>
                <a:spcPts val="249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 in the main directory that want to use the package should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packagename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75000"/>
              </a:lnSpc>
              <a:spcBef>
                <a:spcPts val="41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ackage statement must be th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irst stat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the fi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a package statement is omitted from a file, then the code is part of the default package that has no n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FFF5-EA70-4AFE-B5E3-2115FEFB8A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Package Directorie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ckage hierarchy reflects the file system directory stru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ot of any package must be accessible through a Java system default directory or through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PA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vironment variab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28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1900440" cy="266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60560" y="411480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14800" y="43434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9550-6380-4E67-986A-E88DECA1FC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Visibility Modifier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modifier indicates that the variable or method can b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ccessed anywhere an instance of the class is access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may also be designate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means that any other class can use the class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ame of a public class must match the filename, thus a file can have only one public cla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riable or method is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accessible from methods within the same cla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laring a class variable private "hides" the data within the class, making the data available outside the class only through method call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1D52-3AA5-424D-9A6F-5240E23F04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Visibility Modifiers, cont.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ed variables or methods can only be accessed by methods within the class, within classes in the same package, and within subclasses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ed variables or methods are inherited by subclasses of the same or different pack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[default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variable or method has default visibility if a modifier is omitted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ault visibility indicates that the variable or method can be accessed by methods within the class, and within classes in the same pack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ault variables are inherited only by subclasses in the same packag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7C02-7BF6-4CCA-B8C4-A3919A11BA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4: Overloading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hip4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double x=0.0, y=0.0, speed=1.0, direction=0.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nam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4(double x, double 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speed, double direc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 name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speed = spe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direction = direc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name = nam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4(String name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name = nam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double degreesToRadians(double degree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(degrees * Math.PI / 180.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1541-98DA-4C94-BE1C-72BEE746D4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Protected Visibility: Examp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ocolateC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heri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o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eld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if the code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 had a reference to object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protected calories field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 could not be accessed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37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fields of a class are not accessible outside its branch of the class hierarchy (unless the complete tree hierarchy is in the same packag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05360" cy="35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7857-358D-4EB5-B3AA-E7828684F1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Default Visibility: Examp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en through inheritance, the fat data field cannot cross the package boundary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337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field is accessible through an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within any code in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ckag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337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ocolateC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does not have a fat data field, nor can the fat data field of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s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be accessed from code in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ocolateC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0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52480" y="1454040"/>
            <a:ext cx="5943600" cy="34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F400-5C2D-4BEF-9503-C7E9428500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Visibility Summary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9088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501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A6DD-1532-4379-A189-6F16233DB6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ther Modifier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class, indicates that it cannot be subclas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method or variable, cannot be changed at runtime or overridden in sub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nchron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s a lock on a section of code or 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one thread can access the same synchronized code at any given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bles are not stored in serialized objects sent over the network or stored to di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icates that the method is implement using C or C++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F457-5668-46FF-A6E5-41DC0D9A02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omments and JavaDoc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ava supports 3 types of comm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/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Comment to end of l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/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lock comment containing multiple lin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Nesting of comments in not permitted.    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*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/*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A JavaDoc comment placed before clas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definition and nonprivate method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Text may contain (most) HTML tag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hyperlinks, and JavaDoc tags. 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*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avaDo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d to generate on-line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doc Foo.java Bar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Doc 1.3 Home 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ava.sun.com/j2se/1.3/docs/tooldocs/javado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03EC-BF4F-4A73-A626-AA1B52918B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Useful JavaDoc Tag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@auth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fies the author of the docu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s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doc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–auth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..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generate in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* Description of some clas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@author &lt;A HREF="mailto:brown@lmbrown.com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        Larry Brow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@ver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sion number of the document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s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doc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–ver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..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generate in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pa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a method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retu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return type of a metho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1811-3300-4DA6-829C-5CC808DF8F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Useful JavaDoc Command-line Argume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auth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author information (omitted by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ver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version number (omitted by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noinde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to generate a complete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notre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to generate the tree.html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link, -linkoffli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14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re to look to resolve links to other packag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k http://java.sun.com/j2se/1.3/docs/ap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-linkoffline http://java.sun.com/j2se/1.3/docs/ap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c:\jdk1.3\docs\api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6802-FE1E-4D96-AF7E-1070FDD055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JavaDoc, Examp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*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hip example to demonstrate OOP in Jav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auth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A HREF="mailto:brown@corewebprogramming.com"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        Larry Brown&lt;/A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@vers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Ship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double x=0.0, y=0.0, speed=1.0, direction=0.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* Build a ship with specified parameters.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hip(double x, double y, double speed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irection, String name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y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Speed(speed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Direction(direction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Name(nam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F747-89D6-4C7E-97AA-A1A92615DD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JavaDoc, Exampl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javadoc -linkoffline http://java.sun.com/j2se/1.3/docs/a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\jdk1.3\docs\a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author -version -noindex -notre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hip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C9E8-05B3-4416-AC26-8197512594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JavaDoc: Resul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08280" y="1447920"/>
            <a:ext cx="3921120" cy="52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F973-F98C-4618-B525-D04D65CDB7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verloading (Continued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move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move(int step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angle = degreesToRadians(direction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(double)steps * speed * Math.cos(angl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y + (double)steps * speed * Math.sin(angl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printLocation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name + " is at (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x + "," + y + ").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CFE3-A95B-4EF8-8DE1-7FF88E7E5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loaded methods/constructors, except for the argument list, have identical sign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o create a new class that inherits from a supercla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does not support multiple inheri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 inherited method in a subclass can be overridden to provide custom behavi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riginal method in the parent class is accessible through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.methodName(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faces contain only abstract methods and consta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mpl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ore than one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3E74-577F-4A3A-BC3B-5688D8104B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ummary (Continued)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polymorphism, binding of a method to a n object is determined at run-tim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defines in which directories to look for cla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ckages help avoid namespace colli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ackage statement must be first statement in the source file before any other stat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four visibility types are: public, private, protected, and default (no modifie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ed members can only cross package boundaries through inheri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ault members are only inherited by classes in the same pack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3F5F-63BF-4BBA-AE83-0AA956BE03F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34290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EED-AA61-4586-A626-E49E99550053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verloading: Testing and Resul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Test4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4 s1 = new Ship4("Ship1")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4 s2 = new Ship4(0.0, 0.0, 2.0, 135.0, "Ship2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1.mov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.move(3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1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2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ing and Run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c Test4.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 Test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1 is at (1,0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ip2 is at (-4.24264,4.24264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ADC2-E78A-4085-87F7-FD9BFE59B7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Overloading: Major Poi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you to define more than one function or constructor with the same na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75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oaded functions or constructors must differ in the number or types of their arguments (or both), so that Java can always tell which one you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 example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re are two square methods that differ only in the type of the argument; they would both be permitted inside the same class definiti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quare(4) is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quare(int x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return(x*x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quare("four") is "four fou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quare(String 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(s + " " + 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8F62-0E4B-4424-9242-734D12F6C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5: OOP Design and Usag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/** Ship example to demonstrate OOP in Java. */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class Ship {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double x=0.0, y=0.0, speed=1.0, direction=0.0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String name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/** Get current X location. */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double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getX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(x)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/** Set current X location. */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setX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(double x) {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72E7-FA75-4C0C-B10A-C9AA34A966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5: Major Points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s you change internal representation and data structur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ithout users of your class changing their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s you put constraints on valu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ithout users of your class changing their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s you perform arbitrary side effect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ithout users of your class changing their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ents and JavaDo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 later slides (or book) for detai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B840-58BA-4A10-A901-F23021E3CA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Example 6: Inheritanc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Speedboa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xtends Shi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color = "red"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peedboat(String name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per(nam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Speed(2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peedboat(double x, double 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speed, double directio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, String color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per(x, y, speed, direction, nam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Color(colo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ntLocation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getColor().toUpperCase() + " "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per.printLocation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vanced Object Oriented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22D6-FE82-4B74-981D-3E57AECCE4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1:02:18Z</dcterms:created>
  <dc:creator>Marty Hall and Larry Brown</dc:creator>
  <dc:description/>
  <dc:language>en-US</dc:language>
  <cp:lastModifiedBy>Dave</cp:lastModifiedBy>
  <cp:lastPrinted>2001-09-12T15:32:54Z</cp:lastPrinted>
  <dcterms:modified xsi:type="dcterms:W3CDTF">2003-03-04T19:06:12Z</dcterms:modified>
  <cp:revision>134</cp:revision>
  <dc:subject/>
  <dc:title>Advanced OOP in Java</dc:title>
</cp:coreProperties>
</file>