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EC96D-9AD1-4432-BBBD-620711E1A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27392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77B05-2B66-4E34-9061-E1D60EB52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5680" y="1447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273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5680" y="4273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79706-BA20-4976-9DE9-4F9386F62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44840" y="14479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56160" y="14479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2739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44840" y="42739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56160" y="42739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57561-A21A-4DD5-82C9-07DDC6A16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CFBA-4677-4F75-B6D9-E141E0B98D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1010-4A7B-4315-B165-34843C1C63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D052-5448-4D1B-A953-E783018207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45680" y="14479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AAFC-FB2A-4778-8860-31D7E56BD6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754-203B-45CC-AF89-47D71F16E9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A155-A72F-4351-AF6F-42409C22D1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5680" y="14479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4273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64A-24D0-4D82-B66B-776E2AFA57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F22B2-6967-4EF4-813B-621B17DE5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5680" y="1447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45680" y="4273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7E0F-C9F9-444C-8152-474292B12C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45680" y="1447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27392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791-8CA8-4CDB-84A2-9506CD65A2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427392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6CF-9712-4299-B6C0-09D596C33A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45680" y="1447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73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45680" y="4273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5FB-3CF2-4660-9AC9-E57E0FC0DA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4840" y="14479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56160" y="14479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42739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4840" y="42739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56160" y="42739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27EA-6C5A-44B4-823D-4FEB006359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E41B2-5E58-4FAA-B45C-DEB77B9DB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5680" y="14479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D963F-8E7A-48A7-A44C-4A53C0581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D4E31-F547-4357-9EC9-B785FF5D7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37562-28BF-4FAB-8B1F-B3FC7ED0C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5680" y="14479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273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2C69A-D78C-482D-AA17-1BB4F26DF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5680" y="1447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5680" y="4273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FD06-6BAC-4EB9-BDF8-E98C51DF7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5680" y="14479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7392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52220-57E4-42F0-86A7-1D2FB45A3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Viewgraph-Background" descr=""/>
          <p:cNvPicPr/>
          <p:nvPr/>
        </p:nvPicPr>
        <p:blipFill>
          <a:blip r:embed="rId2"/>
          <a:stretch/>
        </p:blipFill>
        <p:spPr>
          <a:xfrm>
            <a:off x="-61920" y="-47520"/>
            <a:ext cx="9267840" cy="6953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838080" y="662904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002F-972F-4631-B8A8-0C2D2BC407E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129720" y="6521400"/>
            <a:ext cx="301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ww.corewebprogramming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-Background" descr=""/>
          <p:cNvPicPr/>
          <p:nvPr/>
        </p:nvPicPr>
        <p:blipFill>
          <a:blip r:embed="rId2"/>
          <a:stretch/>
        </p:blipFill>
        <p:spPr>
          <a:xfrm>
            <a:off x="-61920" y="-47520"/>
            <a:ext cx="9267840" cy="6953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32767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3"/>
          </p:nvPr>
        </p:nvSpPr>
        <p:spPr>
          <a:xfrm>
            <a:off x="0" y="662904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E058-7ACE-4775-A23D-E3180FDB5E6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652140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2001-2002 Marty Hall, Larry Brown http://www.corewebprogramming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WP2-Globe-350x476" descr=""/>
          <p:cNvPicPr/>
          <p:nvPr/>
        </p:nvPicPr>
        <p:blipFill>
          <a:blip r:embed="rId3"/>
          <a:stretch/>
        </p:blipFill>
        <p:spPr>
          <a:xfrm>
            <a:off x="1676520" y="380880"/>
            <a:ext cx="19047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069080" y="304920"/>
            <a:ext cx="3905640" cy="2593080"/>
            <a:chOff x="4069080" y="304920"/>
            <a:chExt cx="3905640" cy="2593080"/>
          </a:xfrm>
        </p:grpSpPr>
        <p:sp>
          <p:nvSpPr>
            <p:cNvPr id="48" name=""/>
            <p:cNvSpPr/>
            <p:nvPr/>
          </p:nvSpPr>
          <p:spPr>
            <a:xfrm>
              <a:off x="4221000" y="609480"/>
              <a:ext cx="3609720" cy="20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800" spc="-1" strike="noStrike">
                  <a:solidFill>
                    <a:srgbClr val="000000"/>
                  </a:solidFill>
                  <a:latin typeface="Charlemagne"/>
                </a:rPr>
                <a:t>Web</a:t>
              </a:r>
              <a:endParaRPr b="0" lang="en-US" sz="1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69080" y="304920"/>
              <a:ext cx="1334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Present"/>
                </a:rPr>
                <a:t>cor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09040" y="2133720"/>
              <a:ext cx="3865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Present"/>
                </a:rPr>
                <a:t>programming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7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9718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Basic Java Syntax</a:t>
            </a: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85640" y="4723920"/>
            <a:ext cx="6172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D55B-F68A-42FE-BFCC-7FB4C2EA3F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Other Control Statement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6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witch for multiple selections - like many if/else statements, as in C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ch(choice) { // must be int or ch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1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aul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6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reaking control flow - to jump out of a loo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5000"/>
              </a:lnSpc>
              <a:spcBef>
                <a:spcPts val="825"/>
              </a:spcBef>
              <a:buClr>
                <a:srgbClr val="cc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65000"/>
              </a:lnSpc>
              <a:spcBef>
                <a:spcPts val="8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bell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bre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65000"/>
              </a:lnSpc>
              <a:spcBef>
                <a:spcPts val="825"/>
              </a:spcBef>
              <a:buClr>
                <a:srgbClr val="cc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in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6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57F9C-D375-46BA-8B89-BBCD03B218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Screen Input/Output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utput to terminal window is eas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actually - formatting issues - look in a boo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put - not so simple - 3 ways (more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om command line argu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rect coding uses ugly I/O classes (can hide by creating a special class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onsole.jav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pop up window (InputTest.jav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OptionPane.showInputDialog(prompt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7FB1E-367E-478E-A682-E78D06F84B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Input of Number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utput of numbers is easy - the system takes care of changing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int, floa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etc to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ut irrespective of how input is done, it is understood as a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nd the user must turn it into a number type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nging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nput to numb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ge = Integer.parseInt(inputstring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2BC60-8B69-4817-B2A4-502E4D5F3B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Array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essing array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arrays by supplying the index in square brackets after the variable name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Name[index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irst index is 0, not 1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re, the argument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n array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g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Tes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main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ing[] arg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First argument: " +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rgs[0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 javac Test.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 java Tes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Hello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rst argument is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C7ED9-964C-4000-BC68-22F8D7D56F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The Array length Field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rrays have a built-in field called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lengt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hat stores the size of the array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one bigger than the biggest index, due to the fact that the index starts at 0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Test2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main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ing[] arg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Number of args is " +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rgs.lengt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 javac Test2.j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 java Test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 of args i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 java Test2 Hello T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 of args is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72049-BFF2-416D-9B31-13678F8413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Building Array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6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rays can be built in a one-step or two-step process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6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one-step process is of the following for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lnSpc>
                <a:spcPct val="6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[] var = { val1, val2, ... , valN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6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6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6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values = { 10, 100, 1000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6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[] points = { new Point(0, 0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6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Point(1, 2), ... };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6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C4FFC-50E8-49F4-9F33-77B949ED87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Building Arrays, cont.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52560" indent="-49536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 the two-step process, first allocate an array of referenc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[] var = new type[size]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values = new int[7]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[] points = new Point[length]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, populate the arr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s[0] = new Point(...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s[1] = new Point(...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3B6E0-784C-4286-B6AD-5124C69764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Multidimensional Array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ltidimensional arrays are implemented as an array of array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int[][] twoD = new int[64][32]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String[][] cats = { { "Caesar",  "blue-point" }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{ "Heather", "seal-point" }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{ "Ted",     "red-point"  } }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11648-1415-43C4-A5A8-A138A70B38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Data Structure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Java 1.0 introduced two 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synchronized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data structures in the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java.uti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packa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retchable (resizable) array of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access an element is constant regardless of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insert element is proportional to the size of the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sh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ey-value pai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ther the keys or values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access/insert is proportional to the size of the hash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0A626-FC18-45C8-BB42-9C4BEE18EB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Useful Vector Method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Element/insertElementAt/setElement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elements to the v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moveElement/removeElement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s an element from the v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rstElement/lastElem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a reference to the first and last element, respectively (without remov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lement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the element at the specified ind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dexOf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the index of an element that equals the object spec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ai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rmines if the vector contains an object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3F94A-EE5D-49B3-8C91-6BA33AF4AD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Agenda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rol Flow, Scope, Conditionals, Loo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uilding arra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ctors and Hashtab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ata structures introduced in Java 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wrappers to convert primitive data types to obje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andling excep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0C448-AC25-486C-A835-4C0146D226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Useful Vector Method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turns an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Enume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objects in the vector</a:t>
            </a:r>
            <a:br>
              <a:rPr sz="26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umeration elements =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vector.elements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while(elements.hasMoreElements()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System.out.println(elements.nextElement())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number of elements in the ve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number of elements the vector can hold before becoming resiz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EFFBA-8C5C-44A0-B612-6A29DED917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Useful Hashtable Method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t/ge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s or retrieves a value in the hasht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move/clea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s a particular entry or all entries from the hasht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ainsKey/contai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rmines if the hashtable contains a particular key or ele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ys/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an enumeration of all keys or elements, respectiv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the number of elements in the hasht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has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ases the capacity of the hashtable and reorganizes i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29DB2-D2CC-41D7-B81B-9261DB8AB5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Collections Framework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ditional data structures added by Java 2 Platfor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068840" y="2438280"/>
            <a:ext cx="4239360" cy="3111480"/>
            <a:chOff x="1068840" y="2438280"/>
            <a:chExt cx="4239360" cy="3111480"/>
          </a:xfrm>
        </p:grpSpPr>
        <p:sp>
          <p:nvSpPr>
            <p:cNvPr id="191" name=""/>
            <p:cNvSpPr/>
            <p:nvPr/>
          </p:nvSpPr>
          <p:spPr>
            <a:xfrm>
              <a:off x="2671560" y="2438280"/>
              <a:ext cx="151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Col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06560" y="3581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68840" y="472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Sorted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03720" y="358128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Li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55880" y="4114800"/>
              <a:ext cx="155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rray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inkedList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ector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Courier New"/>
                  <a:ea typeface="Courier New"/>
                </a:rPr>
                <a:t>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75800" y="39625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Hash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94920" y="51814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re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285640" y="2895480"/>
              <a:ext cx="10670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52680" y="2895480"/>
              <a:ext cx="914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599840" y="43434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327000" y="2438280"/>
            <a:ext cx="1671120" cy="2502000"/>
            <a:chOff x="6327000" y="2438280"/>
            <a:chExt cx="1671120" cy="2502000"/>
          </a:xfrm>
        </p:grpSpPr>
        <p:sp>
          <p:nvSpPr>
            <p:cNvPr id="202" name=""/>
            <p:cNvSpPr/>
            <p:nvPr/>
          </p:nvSpPr>
          <p:spPr>
            <a:xfrm>
              <a:off x="6775920" y="24382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27000" y="4038480"/>
              <a:ext cx="167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Sorted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15560" y="2971800"/>
              <a:ext cx="149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HashMap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Hashtable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Courier New"/>
                  <a:ea typeface="Courier New"/>
                </a:rPr>
                <a:t>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92680" y="457200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reeM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920" y="3581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066680" y="6111720"/>
            <a:ext cx="30492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88880" y="60580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6111720"/>
            <a:ext cx="304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7160" y="607536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crete 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2520" y="6064200"/>
            <a:ext cx="22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cc0000"/>
                </a:solidFill>
                <a:latin typeface="Courier New"/>
                <a:ea typeface="Courier New"/>
              </a:rPr>
              <a:t>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urier New"/>
              </a:rPr>
              <a:t>Synchronized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42277-AA63-4408-B504-A614683673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Collection Interface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stract class for holding groups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oup of objects containing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no duplic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rtedSe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of objects (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no duplicat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stored in </a:t>
            </a:r>
            <a:r>
              <a:rPr b="0" lang="en-US" sz="2200" spc="-1" strike="noStrike">
                <a:solidFill>
                  <a:srgbClr val="cc0000"/>
                </a:solidFill>
                <a:latin typeface="Times New Roman"/>
              </a:rPr>
              <a:t>ascending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der is determined by a </a:t>
            </a:r>
            <a:r>
              <a:rPr b="0" lang="en-US" sz="2200" spc="-1" strike="noStrike">
                <a:solidFill>
                  <a:srgbClr val="ff0000"/>
                </a:solidFill>
                <a:latin typeface="Courier New"/>
              </a:rPr>
              <a:t>Compa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hysicall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versus logically) ordered sequence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s objects (unordered) identified by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unique ke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rtedMa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 stored in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ascending or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ased on their key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ither duplicate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keys are permit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C4FC1-D377-4258-A8DC-E085B7F136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Collections Clas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 to create synchronized data structur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 list =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llection.synchronizedLi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ew ArrayList())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 map =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llections.synchronizedMa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ew HashMap()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vides useful (static) utility method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5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s (ascending) the elements in th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x, m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5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the maximum or minimum element in th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ver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5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s the order of the elements in th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huff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5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ly permutes the order of the ele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7BEE4-532A-4971-B005-DBF8F0FC4D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Wrapper Classe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ach primitive data type has a corresponding object (wrapper class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data is stored as an immutable field of the obj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438280" y="2286000"/>
          <a:ext cx="4267440" cy="33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286000"/>
                    <a:ext cx="426744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FC6EF-9E87-4300-8324-B23BFB1B5F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Wrapper Use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fines useful constants for each data type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xample,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ger.MAX_VALU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.NEGATIVE_INFIN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vert between data typ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600" spc="-1" strike="noStrike">
                <a:solidFill>
                  <a:srgbClr val="ff0000"/>
                </a:solidFill>
                <a:latin typeface="Courier New"/>
              </a:rPr>
              <a:t>parse</a:t>
            </a:r>
            <a:r>
              <a:rPr b="0" i="1" lang="en-US" sz="2600" spc="-1" strike="noStrike">
                <a:solidFill>
                  <a:srgbClr val="ff0000"/>
                </a:solidFill>
                <a:latin typeface="Courier New"/>
              </a:rPr>
              <a:t>Xx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ethod to convert a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the corresponding primitive data typ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33600" y="4648320"/>
            <a:ext cx="6276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 value = "3.14e6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ouble d = Double.parseDouble(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catch (NumberFormatException nf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Can't convert: " + value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32877-660C-4077-8B3D-3742E4A010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Wrappers: Converting String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09480" y="1600200"/>
          <a:ext cx="830592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3059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3A2C7-D7AA-4DB2-9FF0-F51CD4638B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Error Handling: Exception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 Java, the error-handling system is based on excep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ceptions must be handed in a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 an exception occurs, process flow is immediately transferred to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sic For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ry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1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ment2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 catch(SomeException someVar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ndleTheException(someVar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49032-CDBC-4F68-AF15-FE0345BD10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Exception Hierarchy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mplified Diagram of Exception Hierarch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2209680"/>
            <a:ext cx="190512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w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57800" y="3733920"/>
            <a:ext cx="1905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5257800"/>
            <a:ext cx="19051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5257800"/>
            <a:ext cx="2743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untime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3733920"/>
            <a:ext cx="190476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504960" y="2819520"/>
            <a:ext cx="14475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281952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05320" y="4343400"/>
            <a:ext cx="23619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123720" y="434340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294920" y="4343400"/>
            <a:ext cx="22100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36440" y="5181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499E5-9E01-42E8-8D1A-2CF1A064B54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Control Flow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lock Scop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dition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;  if, else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o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wh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do wh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witch and brea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EF1B-7F68-4AC8-BE96-5358A19579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Throwable Type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rror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non-recover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blem that should not be caught (OutOfMemoryError, StackOverflowError, …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ception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 abnormal condition that should be caught and handled by the program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ntimeException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ecial case; does not have to be caugh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ually the result of a poorly written program (integer division by zero, array out-of-bounds, etc.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idered a 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8128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BF92D-8513-4997-A356-28B3EF3F46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Multiple Catch Clause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6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single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an have more that one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lau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6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6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6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6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6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6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multipl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s are used, order them from the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most specific to the most gener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6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no appropriat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found, the exception is handed to any outer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lo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65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use is found within the method, then the exception is thrown by the method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6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62320" y="2057400"/>
            <a:ext cx="533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catch (ExceptionType1 var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Do some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atch (ExceptionType2 var2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Do something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F2B0D-AE16-48AE-9D23-DE14721D7BE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Try-Catch, Example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fferedReader in = nul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lineI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ry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= new BufferedReader(new FileReader("book.txt")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(lineIn = in.readLine()) != null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lineIn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 catch (FileNotFoundException fnfe 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File not found.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 catch (EOFException eofe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Unexpected End of File.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 catch (IOException ioe) {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IOError reading input: " +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io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ioe.printStackTrace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// Show stack dum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150E2-57CA-400E-86E6-CA7F2D2140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The finally Clause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fter the final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lause, an optional 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finall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lause may be defin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lause is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lways executed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en if the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blocks are exited through a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9200" y="3733920"/>
            <a:ext cx="5209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catch (SomeException someVar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o some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finall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lways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9424B-76DF-40F7-BED5-B10BBC3A26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Thrown Exception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f a potential exception is not handled in the method, then the method must declare that the exception can be throw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omeType someMethod(...)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throws SomeExcep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Unhandled potential exce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e: Multiple exception types (comma separated) can be declared in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plicitly generating an excep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 new IOException("Blocked by firewall.")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 new MalformedURLException("Invalid protocol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9C050-2725-481A-AC37-0CCA4667E4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rays have a public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data fiel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 and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Hashtabl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 are synchron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llections framework adds similar unsynchronized data structur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 the wrapper classes to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vert primitive data types to ob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vert string to primitive data typ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de that may give rise to an exception must be in a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block or the method must throw the excep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 is always executed regardless how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lock was exi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6E61C-9C26-43FC-8133-4E2C253DD6A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Block Scope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k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k = n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// k only defined up to her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k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n; // error can’t redefine n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4BF0F-DBC4-4FF7-BEC4-D2F36094F8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Conditional Statement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22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(YourSales &gt;= Target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erformance = “OK”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onus = 100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2590920"/>
            <a:ext cx="1676520" cy="1066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4038480"/>
            <a:ext cx="1371600" cy="609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4952880"/>
            <a:ext cx="1371600" cy="5335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3124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31240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866920" y="5715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2666880"/>
            <a:ext cx="8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581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56720" y="2971800"/>
            <a:ext cx="125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les &gt;= 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160" y="419112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formance=“O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40160" y="504036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nus = 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0B5CF-0D20-4991-A6AE-BE507E6CBF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If/Else conditional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22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(YourSales &gt;= Target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erformance = “OK”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onus = 100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erformance = “bad”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onus = 0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2362320"/>
            <a:ext cx="1371600" cy="1295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3657600"/>
            <a:ext cx="1066680" cy="609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4572000"/>
            <a:ext cx="1066680" cy="609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62920" y="4572000"/>
            <a:ext cx="1066680" cy="609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3733920"/>
            <a:ext cx="1066680" cy="609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41008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2971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9608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54864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62012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2520" y="2819520"/>
            <a:ext cx="125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les &gt;= 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62920" y="2514600"/>
            <a:ext cx="8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240" y="38098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formance=“OK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08480" y="3886200"/>
            <a:ext cx="160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formance=“ba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75120" y="472428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nus = 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7800" y="4724280"/>
            <a:ext cx="8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nus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239C9-23C6-48C0-9CE9-A38CBE3A6A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While Statement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22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while (balance &lt; goal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alance += payment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uble interest =  balance * 4.2/100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alance += interest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years ++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ystem.out.println(years)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2590920"/>
            <a:ext cx="1676520" cy="1066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4038480"/>
            <a:ext cx="1371600" cy="609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4952880"/>
            <a:ext cx="1371600" cy="5335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3124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2666880"/>
            <a:ext cx="8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3581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6720" y="2971800"/>
            <a:ext cx="122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lance &lt; go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6360" y="419112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86760" y="510552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ars 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800240" y="5715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800600" y="24382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5410080"/>
            <a:ext cx="9907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67480" y="3124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69320" y="549756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nt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674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2558D-825D-4552-B0F1-8F516C9200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Do/While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2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hile loop tests at the top, if you want the test at the end of the loop - so that it executes at least once - use do/whil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alance += payment;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double interest =  balance * 4.2/100;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alance += interest;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years ++;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// ask if ready to retire - get inpu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while (input.equals(“N”));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A4A0-ED56-4D6A-B716-C96543EED3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For loop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2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or loop executes a fixed number of times determined by a counter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or (int i = 0; i &lt;= 10; i ++) // common syntax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ystem.out.println(i);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7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or (i = 0; i &lt;= 10; i ++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ystem.out.println(i);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i="1" lang="en-US" sz="1900" spc="-1" strike="noStrike">
                <a:solidFill>
                  <a:srgbClr val="000000"/>
                </a:solidFill>
                <a:latin typeface="Courier New"/>
              </a:rPr>
              <a:t>in this case i is still defined after loop (i=10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asic Java Synta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DD51-1002-4E23-A4B9-05B4D3EC1E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21:02:18Z</dcterms:created>
  <dc:creator>Marty Hall and Larry Brown</dc:creator>
  <dc:description/>
  <dc:language>en-US</dc:language>
  <cp:lastModifiedBy>Dave</cp:lastModifiedBy>
  <cp:lastPrinted>2000-12-12T13:42:46Z</cp:lastPrinted>
  <dcterms:modified xsi:type="dcterms:W3CDTF">2003-03-05T14:21:47Z</dcterms:modified>
  <cp:revision>160</cp:revision>
  <dc:subject/>
  <dc:title>CWP: Basic Java Syntax</dc:title>
</cp:coreProperties>
</file>