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6FED-B6E4-48C3-A3F7-88F66536B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2739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B6A7-8ED4-4E70-A7C1-D01055D64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273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5680" y="4273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6ECB-861F-48C3-BB0F-DD79FCA85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44840" y="1447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56160" y="1447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273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44840" y="4273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56160" y="4273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6A65B-0A05-450A-8BEB-EDDF4C160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DDA-FE9A-4D82-A7DA-54AD58C4E8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29F-2561-43A4-B03B-C92F6CF4B0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E0F-6842-4443-A8D0-5F27156A4B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BA5-3C2A-4EE6-8D63-CBA1ED0929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DC90-B98C-4E8A-9C07-82C5BCD2AA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3CC-4813-4CDC-8E15-43CD097B89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4273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89B-43DC-44F9-AE61-804BEEB25E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CB6F-009B-4F23-88DA-51C38A35B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45680" y="4273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683-E37D-47EC-B02B-61C7FB04CE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2739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95E-83A4-45A1-82B9-20C390E2E1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42739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D5D-D80C-4720-923B-77D288BDCC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73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45680" y="4273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A36-C0B5-425B-9420-DA9204F359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4840" y="1447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56160" y="1447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4273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4840" y="4273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56160" y="4273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F75-1F84-49C0-BFB2-F73286619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11E2F-A9C0-465A-B06A-AF31D8235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4D80-3611-45AF-AF08-460DA016F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99A65-92EF-4134-B9E5-D388E9645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059E8-1D15-45A6-AB0B-D6D9E0529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273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B7559-5DF0-4CEB-A731-E18B611E9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5680" y="4273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CAE8-C6CA-45DA-8E79-7AE650CC4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739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43854-ECCA-4BCA-85D0-CF105600B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Viewgraph-Background" descr=""/>
          <p:cNvPicPr/>
          <p:nvPr/>
        </p:nvPicPr>
        <p:blipFill>
          <a:blip r:embed="rId2"/>
          <a:stretch/>
        </p:blipFill>
        <p:spPr>
          <a:xfrm>
            <a:off x="-61920" y="-47520"/>
            <a:ext cx="9267840" cy="6953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38080" y="662904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1EF9-1D9F-469C-BCA8-D6AF8BF573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129720" y="6521400"/>
            <a:ext cx="301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ww.corewebprogramming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-Background" descr=""/>
          <p:cNvPicPr/>
          <p:nvPr/>
        </p:nvPicPr>
        <p:blipFill>
          <a:blip r:embed="rId2"/>
          <a:stretch/>
        </p:blipFill>
        <p:spPr>
          <a:xfrm>
            <a:off x="-61920" y="-47520"/>
            <a:ext cx="9267840" cy="6953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0" y="662904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EB0F-84D6-40E6-8901-15E9655845C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652140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2001-2002 Marty Hall, Larry Brown http://www.corewebprogramming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WP2-Globe-350x476" descr=""/>
          <p:cNvPicPr/>
          <p:nvPr/>
        </p:nvPicPr>
        <p:blipFill>
          <a:blip r:embed="rId3"/>
          <a:stretch/>
        </p:blipFill>
        <p:spPr>
          <a:xfrm>
            <a:off x="1676520" y="380880"/>
            <a:ext cx="19047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069080" y="304920"/>
            <a:ext cx="3905640" cy="2593080"/>
            <a:chOff x="4069080" y="304920"/>
            <a:chExt cx="3905640" cy="2593080"/>
          </a:xfrm>
        </p:grpSpPr>
        <p:sp>
          <p:nvSpPr>
            <p:cNvPr id="48" name=""/>
            <p:cNvSpPr/>
            <p:nvPr/>
          </p:nvSpPr>
          <p:spPr>
            <a:xfrm>
              <a:off x="4221000" y="609480"/>
              <a:ext cx="3609720" cy="20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800" spc="-1" strike="noStrike">
                  <a:solidFill>
                    <a:srgbClr val="000000"/>
                  </a:solidFill>
                  <a:latin typeface="Charlemagne"/>
                </a:rPr>
                <a:t>Web</a:t>
              </a:r>
              <a:endParaRPr b="0" lang="en-US" sz="1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69080" y="304920"/>
              <a:ext cx="1334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Present"/>
                </a:rPr>
                <a:t>cor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09040" y="2133720"/>
              <a:ext cx="3865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Present"/>
                </a:rPr>
                <a:t>programmin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327672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Basic Object-Oriented Programming in Java </a:t>
            </a: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5640" y="4723920"/>
            <a:ext cx="6172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D4F-CBEF-4C41-AA02-2B4A8AE735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Example 2: Method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hip2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x=0.0, y=0.0, speed=1.0, direction=0.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ring name = "UnnamedShip"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vate double degreesToRadians(double degree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(degrees * Math.PI / 180.0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ublic void move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angle = degreesToRadians(direction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speed * Math.cos(angle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y + speed * Math.sin(angle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ublic void printLocation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name + " is at (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x + "," + y + ")."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180B8-56E7-4502-A919-C2D53C1D90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Methods (Continued)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Test2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ip2 s1 = new Ship2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1.name = "Ship1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ip2 s2 = new Ship2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2.direction = 135.0; // Northw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2.speed = 2.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2.name = "Ship2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1.mov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2.mov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1.printLocation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2.printLocation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ing and Runn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c Test2.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 Test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ip1 is at (1,0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ip2 is at (-1.41421,1.41421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9FB02-BD08-4705-BFC2-511FA4C332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Example 2: Major Point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mat of method defini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hods that access local field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lling method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fault values for field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ublic/private distin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CA21-42C6-4EA2-9A67-5F88965D97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Defining Methods</a:t>
            </a:r>
            <a:br>
              <a:rPr sz="4200"/>
            </a:b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(Functions Inside Classes)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sic method declaration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ReturnType methodName(type1 arg1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type2 arg2, ...) {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(something of ReturnType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ception to this format: if you declare the return type as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special syntax that means “this method isn’t going to return a value – it is just going to do some side effect like printing on the screen”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such a case you do not need (in fact, are not permitted), a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atement that includes a value to be retur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EC688-BD8A-4889-A4D2-2C19A57063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Examples of Defining Method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 are two exampl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irst squares an integ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econd returns the faster of tw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i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, assuming that a class call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i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been defined that has a field nam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pe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Example function call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  int val = square(7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int square(int x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x*x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Example function cal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  Ship faster = fasterShip(someShip, someOtherShi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Ship fasterShip(Ship ship1, Ship ship2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hip1.speed &gt; ship2.speed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ship1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ship2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E90A5-0366-4C63-8450-F4FE4453B0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Exception to the “Field Access with Dots” Rul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ally access a field via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Name.field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t an exception is when a method of a class wants to access fields of that same clas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at case, omit the variable name and the d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xample, a move method within the Ship class might 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move(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 + speed * Math.cos(direction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24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r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ll fields within the class that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belongs to, s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refer to the fields direct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we’ll see later, you still can use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Name.field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pproach, and Java invents a variabl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can be used for that purpo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749E5-7E61-4213-839A-7C9E2F431E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Static Method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tic functions are like global functions in other languag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ou can call a static method through the class n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Name.functionName(arguments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xample,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has a static method call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expects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ecision number as an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24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you can 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cos(3.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out ever having any object (instance) o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98095-6DD3-4ABE-A07A-FB0E3F874A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Method Visibility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distin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declaration of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eans that “outside” methods can’t call it -- only methods within the same class c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for example,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ld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x = s1.degreesToRadians(2.2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ing to do so would have resulted in an error at compile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ly say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publi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methods that you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ant to guarantee your class will make available to use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are free to change or eliminate private methods without telling users of your class about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3D9F4-22D3-44FA-87DC-8233AF5C3E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Example 3: Constructor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hip3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double x, y, speed, directio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ring nam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blic Ship3(double x, double y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ouble speed, double direction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 name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is.x = x; // "this" differentiates instance va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is.y = y; //  from local v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is.speed = spe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is.direction = directio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is.name = nam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double degreesToRadians(double degree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(degrees * Math.PI / 180.0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76FC-4AF6-4CC6-95B4-DCCCEF7D6D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onstructors (Continued)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move(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angle = degreesToRadians(direction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 + speed * Math.cos(angle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= y + speed * Math.sin(angle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printLocation(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name + " is at (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x + "," + y + ").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Test3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hip3 s1 = new Ship3(0.0, 0.0, 1.0,   0.0, "Ship1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hip3 s2 = new Ship3(0.0, 0.0, 2.0, 135.0, "Ship2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1.mov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2.mov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1.printLocation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2.printLocation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861DA-EB89-471D-86BC-3684612FF5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Object-Oriented Nomenclatur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ass” means a category of thing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name can be used in Java as the type of a field or local variable or as the return type of a function (metho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” means a particular item that belongs to a cla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so called an “instance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 example, consider the following line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tring s1 = "Hello"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ere, String is the class, s1 is an instance variable of class String, whose value is the String object "Hello"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DED2-E957-48B6-9F3A-9E2923584A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onstructor Example: Result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ing and Running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c Test3.j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 Test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ip1 is at (1,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ip2 is at (-1.41421,1.4142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50F9-C982-4A57-85E2-19D18E7571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Example 3: Major Point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mat of constructor defini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“this” refere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structors (not!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56AE-D8E5-402A-BB74-A92AAFA0F2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onstructor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structors are special functions called when a class is created with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new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are especially useful for supplying values of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are declared throug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Name(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ice that the</a:t>
            </a:r>
            <a:r>
              <a:rPr b="0" lang="en-US" sz="2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onstructor name must exactly match the class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have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no return 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not ev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unlike a regular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automatically provides a zero-argument constructor if and only if the class doesn’t define it’s own construc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5000"/>
              </a:lnSpc>
              <a:spcBef>
                <a:spcPts val="24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’s why you could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ip1 s1 = new Ship1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irst example, even though a constructor was never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6C6B9-9E15-40C8-974D-2B0A09F5FB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The </a:t>
            </a:r>
            <a:r>
              <a:rPr b="1" lang="en-US" sz="4200" spc="-1" strike="noStrike">
                <a:solidFill>
                  <a:srgbClr val="cc0000"/>
                </a:solidFill>
                <a:latin typeface="Courier New"/>
              </a:rPr>
              <a:t>this</a:t>
            </a: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 Variabl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thi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bject reference can be used inside any non-static method to refer to the current objec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common uses of the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reference are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pass a reference to the current object as a parameter to other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meMethod(this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resolve name confli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85000"/>
              </a:lnSpc>
              <a:spcBef>
                <a:spcPts val="24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mits the use of instance variables in methods that have local variables with the sam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85000"/>
              </a:lnSpc>
              <a:spcBef>
                <a:spcPts val="37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e that it is only necessary to s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field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n you have a local variable and a class field with the same name; otherwise just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th n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B325D-878C-4206-A3A8-8622F5432F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Destructor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895480"/>
            <a:ext cx="63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Page Intentionally Left Blan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0D01-C83F-4AF0-86A4-2CB625DD8D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ass names should start with uppercase; method names with lowercas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thods must define a return type o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f no result is return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a method accepts no arguments, the arg-list in the method declaration is empty instead of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s in 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tic methods do not require an instance of the class; static methods can be accessed through the class n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reference in a class refers to the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bject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ass constructors do not declare a return typ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ava performs its own memory management and requires no destructors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9F44-4C9B-48E7-AAE9-216B697B65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Example 1: Instance Variables (“Fields” or “Data Members”)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class Ship1 {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public double x, y, speed, direction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public String name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class Test1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ip1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1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ew Ship1(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1.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= 0.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1.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= 0.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1.spee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= 1.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1.directio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= 0.0;   // E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1.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= "Ship1"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s1.name + " is initially at (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s1.x + "," + s1.y + ").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1.x = s1.x + s1.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Math.cos(s1.direction * Math.PI / 180.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1.y = s1.y + s1.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Math.sin(s1.direction * Math.PI / 180.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s1.name + " has moved to (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s1.x + "," + s1.y + ")."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4E306-5BCA-4BF0-9893-C46F9C0DD6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Instance Variables: Result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ing and Runn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c Test1.jav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 Test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ip1 is initially at (1,0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ip2 has moved to (-1.41421,1.41421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D4176-2FE4-4A36-8464-FC246C0E5E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Example 1: Major Point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ava naming conven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mat of class defini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eating classes with “new”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cessing fields with “variableName.fieldName”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06F59-EFD9-4288-A817-3C0C83CD13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Java Naming Convention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ading uppercase letter in class nam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ublic class MyClass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ading lowercase letter in field, local variable, and method (function) nam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yFiel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yVa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yMeth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CF09-D4D4-4230-BAE8-CB0F9A21C0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First Look at Java Classe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7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eneral form of a simple class i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difi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difier data-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ield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difier data-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ield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difier data-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ield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difier Return-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methodName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tat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difier Return-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methodName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tat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ECA39-D09B-4099-BD71-AAC56A0815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Objects and Reference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ce a class is defined, you can easily declare a variable (object reference) of the cla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p s1, s2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 star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 blue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 references are initially </a:t>
            </a:r>
            <a:r>
              <a:rPr b="1" lang="en-US" sz="3000" spc="-1" strike="noStrike">
                <a:solidFill>
                  <a:srgbClr val="cc0000"/>
                </a:solidFill>
                <a:latin typeface="Courier New"/>
              </a:rPr>
              <a:t>nul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alue is a distinct type in Java and should not be considered equal to zer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primitive data type cannot be cast to an object (use wrapper class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cc0000"/>
                </a:solidFill>
                <a:latin typeface="Courier New"/>
              </a:rPr>
              <a:t>ne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operator is required to explicitly create the object that is referenc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Name variableName =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new ClassName(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4677-549B-49FF-A0F8-2D9EB44BE1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Accessing Instance Variable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 a dot between the variable name and the field name, as follow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Name.fieldN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 example, Java has a built-in class called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at has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iel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 = new Point(2, 3); // Build a Poin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Squared = p.x * p.x;  // xSquared is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.x = 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e major exception applies to the “access fields through varName.fieldName” r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s can access fields of current object without var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will be explained when methods (functions) are discus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35605-9887-40B4-8B16-DFC8D3AE4A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21:02:18Z</dcterms:created>
  <dc:creator>Marty Hall and Larry Brown</dc:creator>
  <dc:description/>
  <dc:language>en-US</dc:language>
  <cp:lastModifiedBy>Dave</cp:lastModifiedBy>
  <cp:lastPrinted>2000-12-12T13:42:46Z</cp:lastPrinted>
  <dcterms:modified xsi:type="dcterms:W3CDTF">2002-10-07T18:11:04Z</dcterms:modified>
  <cp:revision>133</cp:revision>
  <dc:subject/>
  <dc:title>OOP in Java</dc:title>
</cp:coreProperties>
</file>